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618-7452-474E-B888-F9040EA8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0F0-84BB-45F9-ABC8-FC81D35B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9D51-34DD-483D-88E1-A3DB5EEF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D76-AEAA-464E-BDD2-85E98F37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848B-E8FB-4ACD-B21C-3685712D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67DA-C055-4D94-ACE6-94758F31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13D6-9916-4D05-8447-D863E630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CA31-E3EE-4841-ADF1-70000821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0BC2-9550-4BE2-93E4-FCF1152E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0401-2C18-4AA3-BEBB-9E6B5B02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99B0-CD06-48E5-8DF2-E596C058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221-6869-4413-83C4-B64C6743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6F83-3447-42D7-A12F-CCE10D8F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6903-2652-4C98-A424-9253F57F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2537-199B-4875-AC02-C0AA6213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62F5-CFAD-440C-8129-2BEBD8D5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C99E-B6CF-4C52-BCD9-BE08F010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7AE-3C64-4CE7-B455-B3F92736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D8E-7566-4521-92DC-6A67309F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760-8BF0-4E20-9A1A-F72D6319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A02-827B-4E14-872E-DB5F29E4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4CD-C192-43D7-BE8C-7DEDEAAD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D27-C66C-4699-86FD-F4143F53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48D-6994-4ADC-ABEC-DC758CB3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68EA-47DC-40D4-879B-4EF7E6A57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D319-3910-49C7-9B05-61ECCCD3A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 30 do Código de Min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30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ealizada a pesquisa e apresentado o relatório exigido nos termos do inciso V do art. 22, o D.N.P.M. verificará sua exatidão e, à vista de parecer conclusivo, proferirá despacho d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 - aprovação do relatório, quando ficar demonstrada a existência de jazida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I - não aprovação do relatório, quando ficar constatada insuficiência dos trabalhos de pesquisa ou deficiência técnica na sua elaboraçã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II - arquivamento do relatório, quando ficar demonstrada a inexistência de jazida, passando a área a ser livre para futuro requerimento, inclusive com acesso do interessado ao relatório que concluiu pela referida inexistência de jazida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V - sobrestamento da decisão sobre o relatório, quando ficar caracterizada a impossibilidade temporária da exeqüibilidade técnico-econômica da lavra, conforme previsto no inciso III do art. 2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§ 1º. Na hipótese prevista no inciso IV deste artigo, o D.N.P.M. fixará prazo para o interessado apresentar novo estudo da exeqüibilidade técnico-econômica da lavra, sob pena de arquivamento do relatór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§ 2º. Se, no novo estudo apresentado, não ficar demonstrada a exeqüibilidade técnico-econômica da lavra, o D.N.P.M. poderá conceder ao interessado, sucessivamente, novos prazos, ou colocar a área em disponibilidade, na forma do art. 32, se entender que terceiro poderá viabilizar a eventual lavr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§ 3º. Comprovada a exeqüibilidade técnico-econômica da lavra, o D.N.P.M. proferirá, ex officio ou mediante provocação do interessado, despacho de aprovação do relatório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36:13Z</dcterms:modified>
  <cp:revision>62</cp:revision>
  <dc:subject/>
  <dc:title>Apresentação do PowerPoint</dc:title>
</cp:coreProperties>
</file>